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94A4-92AE-424C-80DC-64189A4D53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ead, the people prefers private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e willing to defend our liberty in case it were threatened? Are we “corrupt” in Machiavelli’s te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.e., how do you ensure that they are willing to defend the institutions that make them free and their country against external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ey ceremonies of Roman religion were th aug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a, religion in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I.10 of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is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damental problem of politics is really the problem of conflict, internal and ex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hiavelli: people become bored with the good, hence act malici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is the model not for Ciceronian reasons, but for new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 give the upper hand to one of the two humours in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epend on the exceptional skill of individuals, and are sustained by few, rather than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liberty mean, for Machiavell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have liberty for both groups at o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 with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lict does not mean “division” – there is a right kind and a wrong kind of conflict. The republican conflict is grounded in the overarching love of all for  the institutions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Z vs. US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31C7-FBA4-4166-8CD1-45B75C8E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F55-573E-49CA-A538-783B7320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5F1-F148-4159-BFA1-E24E3F80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34F-1C35-41D6-8D48-A56A2E25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67A-DCB5-45A0-A4D9-D9A7C4A0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913-9B9E-4272-9FCA-0A4C6228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D404-1AB3-42D6-A37C-2BC7CA8F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4AA-FA52-41A4-9F76-F2D584E9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44C1-2F0D-4E2B-BFD6-017A4425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3B59-0C68-4AB3-A71A-11E89A5D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584-9A8F-45AB-98C5-E99EC2E6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DDD2-D712-486A-ACB9-762B4EC9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6635-4261-4CFF-A307-C01E5B7E5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avel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August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2158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uption and lib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ople is corrupt when it no longer defends the institutions that guarantee its lib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uption and lib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uption means internal instability and external d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ional conflict and accumulations of power rather than conflict between the two hum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ve of private advantage rather than love of country means the Republic becomes easier prey for outside ene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uption and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security can produce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547236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problem of corru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ensure that the people are not corrup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n for Machiavelli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men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ivic life: it is necessary to prevent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hristianity useful to civic lif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s of Christianity encourage private life, humility, and contemplation, not public spirit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urch is corrupt: it gives a bad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36576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Roman religion adequ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encouraged public spiritedness and public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encouraged a certain savagery through animal sacri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enabled skilled leaders to manipulate the people for useful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8320" y="2384280"/>
            <a:ext cx="403848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theless, Roman religion could also become corrupted: when the auguries started to speak with the voice of th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avelli’s “pagan”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anity values “private”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pagans” valued public life: honor, freedom,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two value systems are incompatible: one must cho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ry and fo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serves prai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rs of reli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rs of republics or of long-lived kingd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have enlarged their ow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 of arts and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serves bl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royers of religion, republics, kingdoms,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bility of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ty is resilience in the face of internal and external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e as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67120" y="1695600"/>
            <a:ext cx="320976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nding Republ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cessity of a “prince” to found an enduring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men who are also bad: these are r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 who are willing to be bad but who also look towards the common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 who do not try to establish hereditary succession but institutions which are supported by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mes are justified for the sake of creation, not of ruin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nding republ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rder of Re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2492280"/>
            <a:ext cx="40384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“humours” in every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ople want not to be oppressed: they want security for their private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nobles” – the ambitious and rich – want to op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necessarily in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ilience in the face of internal confli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” political regimes are either unstable or otherwise tyran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st regime is republican: it is a mixed regime that is both stable and preserves lib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not give the upper hand to an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sustained by the efforts of many rather than the skill of f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ty means two different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eople, it means security (the ability to enjoy private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“nobles”, it means the ability to command and engage in enterprises that will bring them power and gl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imple regimes, liberty for one group means oppression for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ty and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republic, institutions are set up so that the ambitious competition of the “nobles” does not result in the oppression of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harmony, but the right sort of internal conflict, is necessary to maintain lib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Liberty and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ublic indictments vs. false accu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conflict: Republics and emp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ice vs.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ld is a dangerous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sort of internal conflict sustains the ability of republics to defend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22:25:39Z</dcterms:created>
  <dc:creator>Full Name</dc:creator>
  <dc:description/>
  <dc:language>en-US</dc:language>
  <cp:lastModifiedBy>Full Name</cp:lastModifiedBy>
  <dcterms:modified xsi:type="dcterms:W3CDTF">2008-08-14T20:53:01Z</dcterms:modified>
  <cp:revision>5</cp:revision>
  <dc:subject/>
  <dc:title>Machiavelli</dc:title>
</cp:coreProperties>
</file>